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AE0-CAB9-41EF-8605-B9BD1BA8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EE3-07DB-4155-8724-580BFB9A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E1A-9675-4308-B9C0-A3B17EA0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3AF-6B37-420B-8555-EE294FB2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6CB-E1AD-487B-84DC-8C96BC2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B72-749A-474A-8984-C13F438A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00A-F2AD-4C2E-A8CB-75885AE9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09A-2D9D-4EF5-99F0-3FD32BE5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C18-C43F-415B-9C5A-0D4061AA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153-AD1E-4A60-A667-2F5686B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FB3-B9C2-4109-BC94-AA8551DC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0D7-AB36-44B9-A115-F7D99111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B2B5-8CDE-4FAC-B83D-8E5614D28D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3200" y="1981080"/>
            <a:ext cx="3200400" cy="19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CONCORDANZA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I TEMPI DEL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GIUNTIV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0" y="990720"/>
            <a:ext cx="4095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 verbi impersonali + 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b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or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i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43200" y="914400"/>
            <a:ext cx="3743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SERE + aggettivo 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vverbio o nome + 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2590920"/>
          <a:ext cx="7772400" cy="3624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possib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probab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incer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b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oppor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ut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diffic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st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giu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megl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pegg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t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tradi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un ca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leg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una vergog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abitu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RESENTE/FUTU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ella frase indip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posteriore o contempora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.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anteri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. 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MPO PASS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ella frase indip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posteri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D. 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contempora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. IMPER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anteri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. TRA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81080" y="914400"/>
            <a:ext cx="50198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CONCORDANZA DEI TEMPI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L CONGIUNTIV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ffinché/perché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da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enché/sebbene/nonostant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obwoh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e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wenn, falls),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urché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ur...we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ome s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wie we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enza che/tranne che/a meno ch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ßer wenn, es sei denn, d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ima ch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bev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 modo tale ch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sod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81080" y="1066680"/>
            <a:ext cx="4686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 congiunzioni o locu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cui si esprim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ubbio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n  c´è: che stia m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siderio o rimpia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gari ti avessi dato ret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sortazione o coman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 accomod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senso e ammiss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e venga pure, mi farà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iac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57400" y="838080"/>
            <a:ext cx="47721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in proposi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penden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PER ESERCITARE LE FORME DEL CONGIUNTIVO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in frasi singole</a:t>
            </a:r>
            <a:br>
              <a:rPr sz="40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hot potato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iuntivo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iuntivo 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iuntivo imper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iuntivo tra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l presente al 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 congiun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PER ESERCITARE LE FORME DEL CONGIUNTIVO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in testi (hot potato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n ritar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19520" y="1447920"/>
            <a:ext cx="323856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QUATTRO TEMPI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L CONGIUNTIVO: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6880" y="3962520"/>
            <a:ext cx="41817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prese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passa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imperfett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trapassa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ar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amo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ere/-ir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amo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ccezioni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s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av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bb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andar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ad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b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v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dare –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d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di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c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vere 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bb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fa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acc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ot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oss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imanere 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iman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sali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l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sap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pp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sceglier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cel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sta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ten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n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togli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l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ci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sc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veni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n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volere -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685800"/>
            <a:ext cx="4991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PRESENTE_x000b_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8480" y="1371600"/>
            <a:ext cx="10573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vere/essere al congiuntivo presente + participio passato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i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parl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tu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conosci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ui/le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fin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chi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m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or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n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p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i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anda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tu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sces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ui/le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usci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rimas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sta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or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n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torna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0" y="457200"/>
            <a:ext cx="4524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PASSA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1066680"/>
            <a:ext cx="1162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e: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are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ere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ire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ccezioni: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re –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ev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dare –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dir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c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are –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ac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stare –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radurre -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raduc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28800" y="685800"/>
            <a:ext cx="506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IMPERFET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62520" y="1447920"/>
            <a:ext cx="1304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avere/essere al cong. imperfetto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 + participio pass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i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mang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tu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bev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ui/le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d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ap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v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or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er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chi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i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resta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tu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riusci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ui/le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parti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venu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arriva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or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er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sta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828800" y="533520"/>
            <a:ext cx="5210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TRAPASSA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295280"/>
            <a:ext cx="1200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 VERBI + CHE secondo la concordanza dei tempi del congiun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 CONGIUNZIONI E LOC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24080" y="838080"/>
            <a:ext cx="29718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PROPOSIZION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66680" y="2895480"/>
            <a:ext cx="2819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PENDENT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29200" y="2895480"/>
            <a:ext cx="3324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PENDENT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verbi che esprimono: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soggettività, opinione, dubbio, incertezza, necessità, possibilità, probabilità, volontà, desiderio, timore, speranza, augurio, attesa, stati d´animo e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verbi impersonali + 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essere + aggettivo o avverbio o nome + 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00200" y="762120"/>
            <a:ext cx="5952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IN PROPOSI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PENDENTI CON VERBI + 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429000" y="990720"/>
            <a:ext cx="2171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I + 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s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en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bit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spett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agin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ib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ett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ett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veder l´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tend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blig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r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ac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der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gognar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07:41:39Z</dcterms:created>
  <dc:creator>Susanne Kutner</dc:creator>
  <dc:description/>
  <dc:language>en-US</dc:language>
  <cp:lastModifiedBy>Gerhard Hartinger</cp:lastModifiedBy>
  <dcterms:modified xsi:type="dcterms:W3CDTF">2003-02-16T14:57:05Z</dcterms:modified>
  <cp:revision>35</cp:revision>
  <dc:subject/>
  <dc:title>LA CONCORDANZA DEI TEMPI DEL CONGIUNTIVO</dc:title>
</cp:coreProperties>
</file>